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3AB7-D9CF-4778-8E48-20F6D32FA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750C-1D1E-4554-BB2B-713EFF355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D158-702C-4B0E-A3EC-1E496335B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DD1-A9E9-4396-8455-78C98ED5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5412-EE61-4381-B64F-394AB459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A38A-63F5-4B17-B569-36109E1C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A3D3-85E9-4E1D-A392-2E28807B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0C45-0B3F-4FBD-BFA1-BDD2F859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A0B3-0907-4BC4-AE56-21612376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A2AA-3750-4B6A-B7A7-727F4D96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602-2359-4DC9-96A0-6157963D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BDC1-21FF-4020-8426-4F988D0D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165-0A0B-407E-ADEF-3D3792CE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7DBC-BD9E-494D-A053-99A83BA3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7E38-1E6D-402F-8AC8-D33CF309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E7C6-A698-4205-BCCE-F53C09BF0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32448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3244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Calibri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Calibri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Calibri"/>
              </a:rPr>
              <a:t>+1 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Calibri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Calibri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Calibri"/>
              </a:rPr>
              <a:t>Racks - Cisco R426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Title </a:t>
            </a:r>
            <a:r>
              <a:rPr b="0" lang="en-US" sz="2000" spc="-1" strike="noStrike">
                <a:solidFill>
                  <a:srgbClr val="eeece1"/>
                </a:solidFill>
                <a:latin typeface="Calibri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609480" y="1447920"/>
            <a:ext cx="777240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These Im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R42610_Front.emf"/>
          <p:cNvPicPr/>
          <p:nvPr/>
        </p:nvPicPr>
        <p:blipFill>
          <a:blip r:embed="rId1"/>
          <a:stretch/>
        </p:blipFill>
        <p:spPr>
          <a:xfrm>
            <a:off x="3768840" y="1055520"/>
            <a:ext cx="16063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42610 Front + D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R42610_Front_+_Door.emf"/>
          <p:cNvPicPr/>
          <p:nvPr/>
        </p:nvPicPr>
        <p:blipFill>
          <a:blip r:embed="rId1"/>
          <a:stretch/>
        </p:blipFill>
        <p:spPr>
          <a:xfrm>
            <a:off x="3768840" y="1055520"/>
            <a:ext cx="16063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42610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R42610_Rear.emf"/>
          <p:cNvPicPr/>
          <p:nvPr/>
        </p:nvPicPr>
        <p:blipFill>
          <a:blip r:embed="rId1"/>
          <a:stretch/>
        </p:blipFill>
        <p:spPr>
          <a:xfrm>
            <a:off x="3768840" y="1055520"/>
            <a:ext cx="16063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42610 Rear + D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R42610_Rear_+_Door.emf"/>
          <p:cNvPicPr/>
          <p:nvPr/>
        </p:nvPicPr>
        <p:blipFill>
          <a:blip r:embed="rId1"/>
          <a:stretch/>
        </p:blipFill>
        <p:spPr>
          <a:xfrm>
            <a:off x="3768840" y="1055520"/>
            <a:ext cx="16063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8:40:15Z</dcterms:created>
  <dc:creator>Brett Newman</dc:creator>
  <dc:description/>
  <dc:language>en-US</dc:language>
  <cp:lastModifiedBy>Gary Klapel</cp:lastModifiedBy>
  <dcterms:modified xsi:type="dcterms:W3CDTF">2011-03-17T17:42:16Z</dcterms:modified>
  <cp:revision>3</cp:revision>
  <dc:subject/>
  <dc:title>Title Slide</dc:title>
</cp:coreProperties>
</file>